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5DB-DEDF-4ED9-A4E1-C4B2A7A3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2A8-485E-420E-954D-CA69E0D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3AC-AEB3-48C8-AEC4-AB57F1B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D5C-0D79-4FB0-99D7-460B6D57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1F7E-172F-4C12-B1A1-AD3E20D3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AE14-FB6B-4A1F-812C-410655F3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6E2C-AAD0-4607-AB2F-1679B78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E6EB-F775-43D6-B65A-5DB77515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E8CC-BC2B-42D7-A5E7-43F8713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DCBE-CE5F-4C33-8275-2B4F198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787-1862-446D-871A-5A035C1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AAE-6BB4-4A62-A763-C8B5AA36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8A25-1CCF-4844-BD08-B10EDBA3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888D-7991-4ABC-9BE2-F4C7442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5DF-DE6B-4C71-B3B6-DBAEDD18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F6F-A5B4-42EB-8116-640F7D7B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DC5-D77A-4963-8E99-FAFF3ED7F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E60-D523-450E-851E-81761FBF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7C0-33F8-40AA-8A72-ED880E3A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EBC-E930-4E19-A031-49864C86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1A7-3965-4C59-8614-3CAA560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343-CB58-494F-95E2-23BD68A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159-CC19-4BEC-A2BA-3CCD860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16C-2BEA-423D-9779-15BABC58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2DC2-24B1-4DD9-B582-ADBED2CB9C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1849-C5A5-4C77-85A7-47D48D2DD53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6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VIRU</a:t>
            </a: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ŞI ŞI PROGRAME ANTIVIRU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UM E CORECT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rasaţi săgeţi de corespondenţă între tipul de virus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şi caracteristica lui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boot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scunde prezenţ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Macro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sectorul de boo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polimorfi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aplicaţii care se execut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Stealth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modifică instrucţiun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fişier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docum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Enumeră câteva moduri de infectare a unui calculator cu un viru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Copie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fi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şiere sau recepţionare de e-mail-uri virusate în reţea şi utilizarea dispozitivelor de memorie externă virusate în calculato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e este un antiviru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</a:rPr>
              <a:t>Antivirusul este un program care protejează calculatorul de viruşi prin depistarea şi ştergerea lo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3" name="book" descr=""/>
          <p:cNvPicPr/>
          <p:nvPr/>
        </p:nvPicPr>
        <p:blipFill>
          <a:blip r:embed="rId1"/>
          <a:stretch/>
        </p:blipFill>
        <p:spPr>
          <a:xfrm>
            <a:off x="7772400" y="6161040"/>
            <a:ext cx="914400" cy="6969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2590920" y="2286000"/>
            <a:ext cx="3200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2819520"/>
            <a:ext cx="335304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43200" y="3352680"/>
            <a:ext cx="30481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514600" y="2285640"/>
            <a:ext cx="320040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590920" y="3352680"/>
            <a:ext cx="327636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 ESTE </a:t>
            </a: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VIRUSUL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461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ţie: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sul informatic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prezintă o secvenţă de program cu scop distructiv, ascunsă într-un fiţier numit gazdă (aparent inofensiv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şii devin activi în momentul în care fişierul virusat este utilizat. El rămâne activ în memoria RAM şi infectează mai departe aplicaţiile accesate şi resursele calculatorulu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Computer-04-june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182880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LASIFICAREA VIRUŞI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00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)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pă tipul componentei virusa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viruşi hard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viruşi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tfel, viruşii pot fi grupaţi în 6 categori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de boo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nfectează sectorul de 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t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dică acea parte a hard-disk-ului care este accesată la pornirea calculatorulu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de fişier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infectează aplicaţiile atunci c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â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 acestea sunt execu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004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Macro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nfectează fişiere create cu ajutorul software-ului de birou (ex.: docum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multipatriz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infectează atât sectorul de boot, cât şi fişiere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polimorfi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sunt viruşi care îşi modifică instrucţiunile atunci când infectează un alt calcul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Stealth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0" i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furişează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îşi ascund prezenţa, făcând ca fişierele infectate să pară neinfec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blows_up" descr="Blows up - Click image to download."/>
          <p:cNvPicPr/>
          <p:nvPr/>
        </p:nvPicPr>
        <p:blipFill>
          <a:blip r:embed="rId1"/>
          <a:stretch/>
        </p:blipFill>
        <p:spPr>
          <a:xfrm>
            <a:off x="6172200" y="53341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LASIFICAREA VIRUŞI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pă riscul pe care îl reprezintă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u putere mică de distruge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nu distrug şi nu modifică informaţiile, dar reduc viteza de lucru, blochează frecvent calculatorul şi pornesc melodii sau afişează mes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u putere medie de distruge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de regulă şterg anumite programe (soft-uri) din calcul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u putere mare de distrugere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şterg informaţii de pe hard-disk sau le modifică, blochează executarea programel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Overworked" descr="overworked"/>
          <p:cNvPicPr/>
          <p:nvPr/>
        </p:nvPicPr>
        <p:blipFill>
          <a:blip r:embed="rId1"/>
          <a:stretch/>
        </p:blipFill>
        <p:spPr>
          <a:xfrm>
            <a:off x="6629400" y="5562720"/>
            <a:ext cx="1752480" cy="1089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LASIFICAREA VIRUŞIL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pă modul în care contaminează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are se multiplică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înmulţesc şi contaminează multe fişi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şi care nu se multiplică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distrug lent informaţia şi sunt greu de depist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Wave" descr="wave"/>
          <p:cNvPicPr/>
          <p:nvPr/>
        </p:nvPicPr>
        <p:blipFill>
          <a:blip r:embed="rId1"/>
          <a:stretch/>
        </p:blipFill>
        <p:spPr>
          <a:xfrm>
            <a:off x="3886200" y="4648320"/>
            <a:ext cx="1428840" cy="879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MODURI DE INFECTARE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" y="1219320"/>
            <a:ext cx="80773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într-o reţ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 transmitere de mesaje electronice (e-mail-uri) sau prin copierea sau accesarea informaţiilor partaj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ru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în cazul unui calculator person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 utilizarea dispozitivelor de memorare externe care sunt infec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2_computers" descr="2 computers - Click image to download."/>
          <p:cNvPicPr/>
          <p:nvPr/>
        </p:nvPicPr>
        <p:blipFill>
          <a:blip r:embed="rId1"/>
          <a:stretch/>
        </p:blipFill>
        <p:spPr>
          <a:xfrm>
            <a:off x="3429000" y="2971800"/>
            <a:ext cx="2057400" cy="657360"/>
          </a:xfrm>
          <a:prstGeom prst="rect">
            <a:avLst/>
          </a:prstGeom>
          <a:ln w="0">
            <a:noFill/>
          </a:ln>
        </p:spPr>
      </p:pic>
      <p:pic>
        <p:nvPicPr>
          <p:cNvPr id="402" name="3d_cd" descr="3d cd - Click image to download."/>
          <p:cNvPicPr/>
          <p:nvPr/>
        </p:nvPicPr>
        <p:blipFill>
          <a:blip r:embed="rId2"/>
          <a:stretch/>
        </p:blipFill>
        <p:spPr>
          <a:xfrm>
            <a:off x="6095880" y="5695920"/>
            <a:ext cx="685800" cy="631800"/>
          </a:xfrm>
          <a:prstGeom prst="rect">
            <a:avLst/>
          </a:prstGeom>
          <a:ln w="0">
            <a:noFill/>
          </a:ln>
        </p:spPr>
      </p:pic>
      <p:pic>
        <p:nvPicPr>
          <p:cNvPr id="403" name="Buy_floppy" descr="Buy floppy - Click image to download."/>
          <p:cNvPicPr/>
          <p:nvPr/>
        </p:nvPicPr>
        <p:blipFill>
          <a:blip r:embed="rId3"/>
          <a:stretch/>
        </p:blipFill>
        <p:spPr>
          <a:xfrm>
            <a:off x="3200400" y="5715000"/>
            <a:ext cx="59544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9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CUM PROTEJĂM CALCULATORUL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1447920"/>
            <a:ext cx="815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tru a proteja calculator de viruşi au fost create </a:t>
            </a:r>
            <a:r>
              <a:rPr b="1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ele antivirus</a:t>
            </a:r>
            <a:r>
              <a:rPr b="0" lang="ro-RO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stea au rolul de a depista şi a şterge viruşii din calculator. Este recomandat ca un antivirus să fie rulat de fiecare dată când se utilizează un dispozitiv de memorare extern sau când descărcăm informaţii în reţea (</a:t>
            </a:r>
            <a:r>
              <a:rPr b="0" i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 Printre cele mai cunoscute programe antivirus sunt: 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on Antivirus, BitDefender, RAV Antivirus, Kaspersky, NOD</a:t>
            </a:r>
            <a:r>
              <a:rPr b="0" lang="ro-RO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analyzing_computer_tv_head_md_wht%5B1%5D" descr=""/>
          <p:cNvPicPr/>
          <p:nvPr/>
        </p:nvPicPr>
        <p:blipFill>
          <a:blip r:embed="rId1"/>
          <a:stretch/>
        </p:blipFill>
        <p:spPr>
          <a:xfrm>
            <a:off x="3809880" y="5105520"/>
            <a:ext cx="1016280" cy="1523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54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E RÂNDUL VOSTRU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0663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Trasaţi săgeţi de corespondenţă între tipul de virus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şi caracteristica lui din coloana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boot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scunde prezenţ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Macro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sectorul de boo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polimorfi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aplicaţii care se execut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Stealth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şi modifică instrucţiun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de fişier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ază documen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Enumeră câteva moduri de infectare a unui calculator cu un viru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Ce este un antiviru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book" descr=""/>
          <p:cNvPicPr/>
          <p:nvPr/>
        </p:nvPicPr>
        <p:blipFill>
          <a:blip r:embed="rId1"/>
          <a:stretch/>
        </p:blipFill>
        <p:spPr>
          <a:xfrm>
            <a:off x="7772400" y="6161040"/>
            <a:ext cx="914400" cy="696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7:18:42Z</dcterms:created>
  <dc:creator>andrei313</dc:creator>
  <dc:description/>
  <dc:language>en-US</dc:language>
  <cp:lastModifiedBy>oana&amp;florin</cp:lastModifiedBy>
  <dcterms:modified xsi:type="dcterms:W3CDTF">2008-10-22T19:27:49Z</dcterms:modified>
  <cp:revision>44</cp:revision>
  <dc:subject/>
  <dc:title>Prezentarea calculatorului</dc:title>
</cp:coreProperties>
</file>